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851-BFCE-4A51-9965-AD7CD450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CA2-9985-4099-9821-01EED5F9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241-2153-40C4-991C-F4C31D13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1CD-7240-46EE-A787-C77F82B6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F0E-C7AC-4BC2-88BB-3969239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4E6-A818-43F5-97DF-9EEBD859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925-136C-4633-8360-2F44CEED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A6A-2947-4AFB-AC44-DDA3C1D2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350-8F32-4712-8828-65012210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5DD-86F7-41FE-B9B0-51D000A0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AF3-5EE0-453E-975C-05E9E90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54E-E092-46FE-BAF0-AD77D928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B6B7-0888-4597-A92E-BDE00253E42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E82F-946E-400C-92EF-73FF12A2F7E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336040" y="2743200"/>
            <a:ext cx="4901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    物体的浮沉条件及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物体的浮沉条件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65240" y="1733400"/>
            <a:ext cx="78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章  浮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http:/www.pep.com.cn/images/200305/pic_23921.jpg"/>
          <p:cNvPicPr/>
          <p:nvPr/>
        </p:nvPicPr>
        <p:blipFill>
          <a:blip r:embed="rId1"/>
          <a:srcRect l="0" t="0" r="0" b="8800"/>
          <a:stretch/>
        </p:blipFill>
        <p:spPr>
          <a:xfrm>
            <a:off x="5651640" y="1371600"/>
            <a:ext cx="3200400" cy="19065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317520" y="3157560"/>
            <a:ext cx="796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工作原理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靠改变自身重力上浮和下潜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17520" y="1268280"/>
            <a:ext cx="5445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模拟潜水艇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用注射器向密封的瓶内打气，将瓶内的水排出，瓶向上浮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571680" y="3830760"/>
            <a:ext cx="3882960" cy="2517480"/>
            <a:chOff x="571680" y="3830760"/>
            <a:chExt cx="3882960" cy="2517480"/>
          </a:xfrm>
        </p:grpSpPr>
        <p:pic>
          <p:nvPicPr>
            <p:cNvPr id="89" name="Picture 6" descr=""/>
            <p:cNvPicPr/>
            <p:nvPr/>
          </p:nvPicPr>
          <p:blipFill>
            <a:blip r:embed="rId2"/>
            <a:stretch/>
          </p:blipFill>
          <p:spPr>
            <a:xfrm>
              <a:off x="571680" y="3830760"/>
              <a:ext cx="3882960" cy="25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7"/>
            <p:cNvSpPr/>
            <p:nvPr/>
          </p:nvSpPr>
          <p:spPr>
            <a:xfrm>
              <a:off x="797040" y="5654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潜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3" descr=""/>
          <p:cNvPicPr/>
          <p:nvPr/>
        </p:nvPicPr>
        <p:blipFill>
          <a:blip r:embed="rId3"/>
          <a:stretch/>
        </p:blipFill>
        <p:spPr>
          <a:xfrm>
            <a:off x="5010120" y="3828960"/>
            <a:ext cx="3564000" cy="25178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"/>
          <p:cNvSpPr/>
          <p:nvPr/>
        </p:nvSpPr>
        <p:spPr>
          <a:xfrm>
            <a:off x="3838680" y="603360"/>
            <a:ext cx="12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潜水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92280" y="2273400"/>
            <a:ext cx="2379600" cy="304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82560" y="563724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工作原理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靠空气浮力升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2560" y="1477800"/>
            <a:ext cx="697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内部充有小于空气密度的气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3498840" y="2333520"/>
            <a:ext cx="5219640" cy="29149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"/>
          <p:cNvSpPr/>
          <p:nvPr/>
        </p:nvSpPr>
        <p:spPr>
          <a:xfrm>
            <a:off x="3838680" y="603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气球和飞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49200" y="1189080"/>
            <a:ext cx="830736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密度计是一种什么仪器？它的刻度有什么特点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测量液体密度的仪器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刻度是上小下大，上稀下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密度计的工作原理是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物体漂浮在液面上的条件</a:t>
            </a:r>
            <a:r>
              <a:rPr b="1" i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6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i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密度计浸入液体中越深，说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液体的密度是越大还是越小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越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492880" y="3255840"/>
            <a:ext cx="3244680" cy="30308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"/>
          <p:cNvSpPr/>
          <p:nvPr/>
        </p:nvSpPr>
        <p:spPr>
          <a:xfrm>
            <a:off x="3838680" y="603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密度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盐水选种.wmv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969080" cy="406584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1"/>
          <p:cNvSpPr/>
          <p:nvPr/>
        </p:nvSpPr>
        <p:spPr>
          <a:xfrm>
            <a:off x="3625920" y="671400"/>
            <a:ext cx="20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盐水选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1293840" y="3068640"/>
            <a:ext cx="720720" cy="504720"/>
            <a:chOff x="1293840" y="3068640"/>
            <a:chExt cx="720720" cy="504720"/>
          </a:xfrm>
        </p:grpSpPr>
        <p:sp>
          <p:nvSpPr>
            <p:cNvPr id="108" name="Text Box 3"/>
            <p:cNvSpPr/>
            <p:nvPr/>
          </p:nvSpPr>
          <p:spPr>
            <a:xfrm>
              <a:off x="1293840" y="314136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应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293840" y="3068640"/>
              <a:ext cx="72072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5"/>
          <p:cNvGrpSpPr/>
          <p:nvPr/>
        </p:nvGrpSpPr>
        <p:grpSpPr>
          <a:xfrm>
            <a:off x="3238560" y="2133720"/>
            <a:ext cx="647640" cy="431640"/>
            <a:chOff x="3238560" y="2133720"/>
            <a:chExt cx="647640" cy="431640"/>
          </a:xfrm>
        </p:grpSpPr>
        <p:sp>
          <p:nvSpPr>
            <p:cNvPr id="111" name="Text Box 6"/>
            <p:cNvSpPr/>
            <p:nvPr/>
          </p:nvSpPr>
          <p:spPr>
            <a:xfrm>
              <a:off x="3238560" y="2133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农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3238560" y="2133720"/>
              <a:ext cx="647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8"/>
          <p:cNvGrpSpPr/>
          <p:nvPr/>
        </p:nvGrpSpPr>
        <p:grpSpPr>
          <a:xfrm>
            <a:off x="3238560" y="2781360"/>
            <a:ext cx="647640" cy="431640"/>
            <a:chOff x="3238560" y="2781360"/>
            <a:chExt cx="647640" cy="431640"/>
          </a:xfrm>
        </p:grpSpPr>
        <p:sp>
          <p:nvSpPr>
            <p:cNvPr id="114" name="Text Box 9"/>
            <p:cNvSpPr/>
            <p:nvPr/>
          </p:nvSpPr>
          <p:spPr>
            <a:xfrm>
              <a:off x="3238560" y="2781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军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3238560" y="2781360"/>
              <a:ext cx="647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1"/>
          <p:cNvGrpSpPr/>
          <p:nvPr/>
        </p:nvGrpSpPr>
        <p:grpSpPr>
          <a:xfrm>
            <a:off x="3238560" y="3357720"/>
            <a:ext cx="647640" cy="431640"/>
            <a:chOff x="3238560" y="3357720"/>
            <a:chExt cx="647640" cy="431640"/>
          </a:xfrm>
        </p:grpSpPr>
        <p:sp>
          <p:nvSpPr>
            <p:cNvPr id="117" name="Text Box 12"/>
            <p:cNvSpPr/>
            <p:nvPr/>
          </p:nvSpPr>
          <p:spPr>
            <a:xfrm>
              <a:off x="3238560" y="3357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气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3238560" y="3357720"/>
              <a:ext cx="647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4"/>
          <p:cNvGrpSpPr/>
          <p:nvPr/>
        </p:nvGrpSpPr>
        <p:grpSpPr>
          <a:xfrm>
            <a:off x="3238560" y="4005360"/>
            <a:ext cx="647640" cy="431640"/>
            <a:chOff x="3238560" y="4005360"/>
            <a:chExt cx="647640" cy="431640"/>
          </a:xfrm>
        </p:grpSpPr>
        <p:sp>
          <p:nvSpPr>
            <p:cNvPr id="120" name="Text Box 15"/>
            <p:cNvSpPr/>
            <p:nvPr/>
          </p:nvSpPr>
          <p:spPr>
            <a:xfrm>
              <a:off x="3238560" y="4005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其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3238560" y="4005360"/>
              <a:ext cx="647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7"/>
          <p:cNvSpPr/>
          <p:nvPr/>
        </p:nvSpPr>
        <p:spPr>
          <a:xfrm>
            <a:off x="5229360" y="2160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盐水选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361120" y="2825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潜水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361120" y="34574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热气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5361120" y="41054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密度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4462560" y="2133720"/>
            <a:ext cx="2881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4475160" y="2781360"/>
            <a:ext cx="28814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4475160" y="3429000"/>
            <a:ext cx="28814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4475160" y="4076640"/>
            <a:ext cx="28814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388620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>
            <a:off x="3886200" y="29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>
            <a:off x="388620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388620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9"/>
          <p:cNvSpPr/>
          <p:nvPr/>
        </p:nvSpPr>
        <p:spPr>
          <a:xfrm>
            <a:off x="3022560" y="227664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0"/>
          <p:cNvSpPr/>
          <p:nvPr/>
        </p:nvSpPr>
        <p:spPr>
          <a:xfrm>
            <a:off x="302256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014560" y="33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9"/>
          <p:cNvSpPr/>
          <p:nvPr/>
        </p:nvSpPr>
        <p:spPr>
          <a:xfrm>
            <a:off x="303696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081915VuK"/>
          <p:cNvPicPr/>
          <p:nvPr/>
        </p:nvPicPr>
        <p:blipFill>
          <a:blip r:embed="rId1"/>
          <a:srcRect l="7112" t="14603" r="0" b="0"/>
          <a:stretch/>
        </p:blipFill>
        <p:spPr>
          <a:xfrm>
            <a:off x="747720" y="2163600"/>
            <a:ext cx="3824280" cy="2835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4e0d7efe839d24cdfc037fc2"/>
          <p:cNvPicPr/>
          <p:nvPr/>
        </p:nvPicPr>
        <p:blipFill>
          <a:blip r:embed="rId2"/>
          <a:stretch/>
        </p:blipFill>
        <p:spPr>
          <a:xfrm>
            <a:off x="4859280" y="2205000"/>
            <a:ext cx="3745080" cy="28083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46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47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" name="MH_Other_8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境引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3"/>
          <p:cNvSpPr/>
          <p:nvPr/>
        </p:nvSpPr>
        <p:spPr>
          <a:xfrm>
            <a:off x="1073160" y="2247840"/>
            <a:ext cx="75279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人类从远古时候就开始利用浮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潜水艇、轮船、密度计等浮沉条件的应用。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3460680" y="143820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67840" y="568440"/>
            <a:ext cx="842796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在殷商之前，我国古代人民对浮力就有深入的观察，到殷商时已由制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独木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展到用木板组成大的船体，这是我国最早的木船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57" name="组合 1"/>
          <p:cNvGrpSpPr/>
          <p:nvPr/>
        </p:nvGrpSpPr>
        <p:grpSpPr>
          <a:xfrm>
            <a:off x="1976400" y="2316240"/>
            <a:ext cx="5805360" cy="3873600"/>
            <a:chOff x="1976400" y="2316240"/>
            <a:chExt cx="5805360" cy="3873600"/>
          </a:xfrm>
        </p:grpSpPr>
        <p:pic>
          <p:nvPicPr>
            <p:cNvPr id="58" name="Picture 3" descr="独木舟"/>
            <p:cNvPicPr/>
            <p:nvPr/>
          </p:nvPicPr>
          <p:blipFill>
            <a:blip r:embed="rId1"/>
            <a:stretch/>
          </p:blipFill>
          <p:spPr>
            <a:xfrm>
              <a:off x="1976400" y="2316240"/>
              <a:ext cx="5805360" cy="38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2013120" y="5663880"/>
              <a:ext cx="22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芦湖独木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2"/>
          <p:cNvGrpSpPr/>
          <p:nvPr/>
        </p:nvGrpSpPr>
        <p:grpSpPr>
          <a:xfrm>
            <a:off x="1324080" y="1087560"/>
            <a:ext cx="6750000" cy="5027400"/>
            <a:chOff x="1324080" y="1087560"/>
            <a:chExt cx="6750000" cy="5027400"/>
          </a:xfrm>
        </p:grpSpPr>
        <p:pic>
          <p:nvPicPr>
            <p:cNvPr id="62" name="Picture 2" descr="赣州古浮桥2"/>
            <p:cNvPicPr/>
            <p:nvPr/>
          </p:nvPicPr>
          <p:blipFill>
            <a:blip r:embed="rId1"/>
            <a:stretch/>
          </p:blipFill>
          <p:spPr>
            <a:xfrm>
              <a:off x="1324080" y="1087560"/>
              <a:ext cx="6750000" cy="50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4"/>
            <p:cNvSpPr/>
            <p:nvPr/>
          </p:nvSpPr>
          <p:spPr>
            <a:xfrm>
              <a:off x="6795720" y="5514840"/>
              <a:ext cx="93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浮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 txBox="1"/>
          <p:nvPr/>
        </p:nvSpPr>
        <p:spPr>
          <a:xfrm>
            <a:off x="458640" y="681120"/>
            <a:ext cx="800424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朝以后不仅在小河上能架设浮桥，在黄河、长江这样的大河流上也多次架设过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浮桥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7360" y="630000"/>
            <a:ext cx="82296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国汉代曾发明过一种做军事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信号用的灯笼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灯笼能腾空而起，飞向天空。</a:t>
            </a: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7" name="Picture 3" descr="孔明灯3"/>
          <p:cNvPicPr/>
          <p:nvPr/>
        </p:nvPicPr>
        <p:blipFill>
          <a:blip r:embed="rId1"/>
          <a:stretch/>
        </p:blipFill>
        <p:spPr>
          <a:xfrm>
            <a:off x="1446120" y="1996920"/>
            <a:ext cx="6481800" cy="430704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5600" y="585720"/>
            <a:ext cx="83408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国时期有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“曹冲称象”</a:t>
            </a: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了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以舟称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外，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以舟起重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是中国人的发明。据史籍记载，真定县僧人怀丙曾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“打捞铁牛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他创造了浮力起重法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70" name="Picture 3" descr="曹冲称象邮票2"/>
          <p:cNvPicPr/>
          <p:nvPr/>
        </p:nvPicPr>
        <p:blipFill>
          <a:blip r:embed="rId1"/>
          <a:stretch/>
        </p:blipFill>
        <p:spPr>
          <a:xfrm>
            <a:off x="179280" y="3029040"/>
            <a:ext cx="4276800" cy="316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打捞铁牛"/>
          <p:cNvPicPr/>
          <p:nvPr/>
        </p:nvPicPr>
        <p:blipFill>
          <a:blip r:embed="rId2"/>
          <a:stretch/>
        </p:blipFill>
        <p:spPr>
          <a:xfrm>
            <a:off x="4589640" y="3230640"/>
            <a:ext cx="4483080" cy="282888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8"/>
          <p:cNvSpPr/>
          <p:nvPr/>
        </p:nvSpPr>
        <p:spPr>
          <a:xfrm>
            <a:off x="792000" y="2532240"/>
            <a:ext cx="344016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用橡皮泥做成能承载重物的小船，使它漂浮在水面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417600" y="806400"/>
            <a:ext cx="2116080" cy="712800"/>
            <a:chOff x="417600" y="806400"/>
            <a:chExt cx="2116080" cy="712800"/>
          </a:xfrm>
        </p:grpSpPr>
        <p:pic>
          <p:nvPicPr>
            <p:cNvPr id="75" name="TextBox 1" descr=""/>
            <p:cNvPicPr/>
            <p:nvPr/>
          </p:nvPicPr>
          <p:blipFill>
            <a:blip r:embed="rId1"/>
            <a:stretch/>
          </p:blipFill>
          <p:spPr>
            <a:xfrm>
              <a:off x="417600" y="806400"/>
              <a:ext cx="21160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5"/>
            <p:cNvSpPr/>
            <p:nvPr/>
          </p:nvSpPr>
          <p:spPr>
            <a:xfrm>
              <a:off x="712800" y="922320"/>
              <a:ext cx="164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想想做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4930920" y="1752480"/>
            <a:ext cx="3241440" cy="38005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44440" y="1477800"/>
            <a:ext cx="8443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工作原理：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将钢铁制成空心的轮船，可以排开更多的水，漂浮在水面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5360" y="2747880"/>
            <a:ext cx="395928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排水量（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6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排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轮船满载时排开水的质量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而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∴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货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7000" y="5545080"/>
            <a:ext cx="281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载重线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4175280" y="2727360"/>
            <a:ext cx="4572000" cy="3105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"/>
          <p:cNvSpPr/>
          <p:nvPr/>
        </p:nvSpPr>
        <p:spPr>
          <a:xfrm>
            <a:off x="3830760" y="689040"/>
            <a:ext cx="12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轮  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8:20:40Z</dcterms:modified>
  <cp:revision>5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